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5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CC71-2ECF-4321-88A5-2791F2E52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C738-8978-4206-8C4B-4FEB2F4E0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6E39-63E7-4E2F-8E38-02307D47E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9802-363D-46DA-A2AE-1F3465BDA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0731-2956-4FDC-8A41-C2866E260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C5F6-0C42-4E8D-831C-D0A3EFA9A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71A0-3917-41E5-8074-D40C58B59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ED14-A60B-468A-A092-4417351DF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CF3E-42D1-4377-8EC1-62CE35647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DC84-0095-4E7A-91A6-A6678861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BDDD-E780-4B8B-9C2E-695085C8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0F5D-66CF-4F5D-AECC-AD1675F3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41C8A-86B6-40EE-916B-71B3038A36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on Opportunistic Infections in HIV Pati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ris Farnitano, M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day, August 31, 20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on Con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2590920" y="1523880"/>
            <a:ext cx="3962160" cy="33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ata of Pyram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350 T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50-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-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2895480" y="2743200"/>
            <a:ext cx="424836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&gt;350 T Ce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ed incidence of diseases that also affect normal hos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urrent Vaginal Candidia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lmonary Tubercul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nuemococcal Pneumo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rvical Dyspla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lmonary T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1028" descr=""/>
          <p:cNvPicPr/>
          <p:nvPr/>
        </p:nvPicPr>
        <p:blipFill>
          <a:blip r:embed="rId1"/>
          <a:stretch/>
        </p:blipFill>
        <p:spPr>
          <a:xfrm>
            <a:off x="2590920" y="1523880"/>
            <a:ext cx="45147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-350 T Cell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pes Simpl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pes Zo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u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pes Zoster (Shingl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2051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0-200 T Cell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neumocystis Carinii Pnuemon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xoplasm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yptococc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xoplasm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2286000" y="1600200"/>
            <a:ext cx="510552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&lt;50 T Ce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MV Retin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cobacterium Avium Compl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yptosporidi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essive Multifocal Leukencephalopat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1027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572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ckham's razor does not apply for advanced AID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often multiple diagnoses present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e PCP, CMV, KS, Coc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% of bacterial pneumonias also have PC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% of PCP pneumonia complicated by bacterial inf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for second etiology if patient not impro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 most common opportunistic infections (OIs): Dx and R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 immune reconstitution dis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primary OI prophylax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mune reconstitution diseas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HAART attack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C aden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M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C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ary OI prophylaxi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CP -T cells &lt;200 or thru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xo -T cells &lt;100 and +Toxo ti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C -  Tcells &lt;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B – INH x 9 months if PPD &gt;5mm or quantiferon-TB pos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antiferon vs. TST in HIV pati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ntiferon not approved for use in immunocomprimi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47 HIV patients in New Orleans given both tes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% did not return for TST rea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 positive by quantife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positive by 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iferon is more sensitive but without a gold standard for latent TB infection cannot say whether it is more or less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other study showed similar positive test result rates but a better correlation with risk factors for quantiferon vs. TST suggesting quantiferon is a more specific 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antiferon vs. TST in HIV pati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GaramondPro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aramondPro-Regular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GaramondPro-Regular"/>
              </a:rPr>
              <a:t>Given the high risk for progression to active disease in HIV-infected persons, any HIV-infected person with reactivity on any of the current LTBI diagnostic tests should be considered infected with </a:t>
            </a:r>
            <a:r>
              <a:rPr b="0" i="1" lang="en-US" sz="2800" spc="-1" strike="noStrike">
                <a:solidFill>
                  <a:srgbClr val="000000"/>
                </a:solidFill>
                <a:latin typeface="AGaramondPro-Italic"/>
              </a:rPr>
              <a:t>M. tuberculosi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GaramondPro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Pro-Regular"/>
              </a:rPr>
              <a:t>----CDC guidelines, 3/24/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P Prophylax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ptra SS or DS qd or DS TI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le strength has similar efficacy with fewer adverse reactions (I.e. late onset rash, hepatotoxicity, fev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-50% of AIDS pts. D/c Septra DS due to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ptra Desensitiz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cc qd x 3d, then 2cc qd x 3d, then 5ccqd x 3d, then one SS tab q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psone 100mg qd +pyramethamine 50mg qweek + leukovorin 25mg qwe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erosolized pentamadine 300mg q mon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avaquone 1500mg q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erosolized pentamidine boo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xo prophylax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tra SS or DS qd or DS TI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tra Desensitis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cc qd x 3d, then 2cc qd x 3d, then 5ccqd x 3d, then one SS tab q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psone 100mg qd +pyramethamine 50mg qweek + leukovorin 25mg qwe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ovaquone 1500mg q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C prophylax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ithromax 600mg x 2 tabs qweek reduces infection rate 59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seems to reduce risk of PC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cific Opportunistic Inf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e Study: H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1 yo male with poor adherence to me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V + since at least 199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pisode thrush March,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/o dry mou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: white patches on buccal muco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Cells 5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ed with fluconazole, sx resol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3276720" y="457200"/>
            <a:ext cx="45259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e Study: H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urrent thrush July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uconazole again prescrib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tember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/o odynopha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x: probably esophageal candidia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uconazole again prescrib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x resolve in 3 d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e Study: H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urrent odynophagia January,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ed to itraconazole liq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weeks la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dynophagia resol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ush persists, resolved on re-exam March,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gust, 2006-March, 200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urrent episodes of thrush and esophageal candidiasis due to non-adherence to intraconaz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episode improves when patient is adhe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e Study: H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ril, 200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istent thrush despite stated adh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ed to Voriconaz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x resol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vember, 2007  T Cells 5 Weight 121# (baseline 198#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recurrent odynophagia despite adherence to voriconaz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tted for IV Capsofun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x markedly improve in 24 h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gal Cx: Candida Albic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sitivities: resistant to fluconazole, itraconazole and voriconaz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e Study: H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ember 2007-August 20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istent extensive thrus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ed on Voriconaz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cells 54 -&gt;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gust 2008:  moves in with sisters after hospital stay, adherence improves marked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nuary 2009: T cells 77, thrush much impro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ril, 2009: T cells 239, thrush resol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di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u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ular Chel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ginal Candidia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ophageal Candidia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u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ttage cheese pla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ft palate, buccal mucosa, tonsi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removed with a tongue bl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erythematous form without exu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u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1027" descr=""/>
          <p:cNvPicPr/>
          <p:nvPr/>
        </p:nvPicPr>
        <p:blipFill>
          <a:blip r:embed="rId1"/>
          <a:stretch/>
        </p:blipFill>
        <p:spPr>
          <a:xfrm>
            <a:off x="2438280" y="1828800"/>
            <a:ext cx="4724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ular chelit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ss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yt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iculty opening mou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ular Chelit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027" descr=""/>
          <p:cNvPicPr/>
          <p:nvPr/>
        </p:nvPicPr>
        <p:blipFill>
          <a:blip r:embed="rId1"/>
          <a:stretch/>
        </p:blipFill>
        <p:spPr>
          <a:xfrm>
            <a:off x="2286000" y="1905120"/>
            <a:ext cx="5257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rent Vaginal Candidia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ss frequent than you would expect, unless T Cells&lt;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use Fluconazole 200mg qweek for sup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the most common OI’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hort Studies in pre-triple therapy e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d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neumocystis Carin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ytomegalovir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ycobacterium Avium Compl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neumocystis - second epis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xoplasmi gond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pes zo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ophageal Candidia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ynopha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ly also has thrush (positive predictive value is 90%, but 18% of esophageal candidiasis presents without thrus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 empirically x 5-7 d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not better, scope to r/o other caus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V, HSV, idopathic esophageal ulcers, lymph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ary prophylaxis nee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ophageal Candidia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1981080" y="1981080"/>
            <a:ext cx="5029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atmen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uconazole 100-200mg qd until sx resol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ernatives for resistant Candid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er dose fluconazole (400-800 mg/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raconaz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riconaz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V Capsofun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V Amphoteric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P - Who gets i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tra prophylaxis highly efficati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sk if T Cells &lt;200 or thru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P - Sympto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idious on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-4 weeks of progressive symp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ver, sweats, weight loss, fatigue, nonproductive coug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essive dyspn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rosternal discom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P - 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ung exam usually nor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XR: bilateral diffuse interstitial infiltrate in 80-9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DH&gt;400 in 62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2&lt;75 in 66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P Pneumon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1027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518148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vere PC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5" descr="http://www.mevis.de/~hhj/Lunge/ima/InfPcPEmphCTThA53_4.JPG"/>
          <p:cNvPicPr/>
          <p:nvPr/>
        </p:nvPicPr>
        <p:blipFill>
          <a:blip r:embed="rId1"/>
          <a:stretch/>
        </p:blipFill>
        <p:spPr>
          <a:xfrm>
            <a:off x="2590920" y="1371600"/>
            <a:ext cx="41338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P - Diagn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uced sputum x 3 in early AM (all on same day): 50-70% sens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nchoscopy (+/-Bx): 80-90% sens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CR based te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collect sputums or go directly to bronc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P - Treat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gin before Dx confirmed without affecting diagnostic y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nisone 40mg BID x 5d. Then taper over total 21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tra 15mgTMP/kg/d IV div. Q8h x 21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itch to po when impro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 first dose prednisone 15-30 minutes before Sept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uses of death, PHC HIV clin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07-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H: Crypto meningi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: street drug overd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: sepsis, pneumonia and massive hemopt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W: metastatic prostate 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: CVA, laryngeal 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: PML (progressive multifocal leukencephalopath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: bacterial pneumonia, ETOH cirrhosis, wa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ach to HIV patient with Pneumon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T Cell Cou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 cell Count &gt;20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B presents in typical fash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vitary in 50-6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olate only if CXR suspicious for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portunistic infections unlik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reat empirically for bacterial inf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. pneumoniae, H. Flu most common (encapsulat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consider: Non-Hodgkin’s Lympho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 cell Count &lt;20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B presents as lower lobe disease, adenopathy, miliary or interstitial patte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vitary in only 29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olate all abnormal CXR until TB ruled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portunistic infections lik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tain definitive diagnosis whenever 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ccidiomycosis, Cryptococcus, Aspergill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MV, KS, M.TB, M. Kansas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n’t Treat PCP empirical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rienced physicians make wrong clinical diagnosis in 20% of suspected PC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ients treated empirically have higher risk of death than patients who underwent bron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incidence of rash toward end of 21 d. Septra cou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junctive steroids may exacerbate other O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etiologies left uncove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ytomegalovirus Retinitis - Who Gets I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re above 50 T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ctivation disease: most HIV patients CMV IgG+ (90% of gay HIV+ m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0% of CMV disease is retin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ytomegalovirus Retinitis - Sympto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inless, progressive visual lo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lateral blurry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oa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ytomegalovirus Retinitis - 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alescing white perivascular exudat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rrounded by hemorrh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ushfire pattern or tomato and cheese piz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ytomegalovirus Retinit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4800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ytomegalovirus Retinit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3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4800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ytomegalovirus Retinitis - Diagn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suspect it, obtain ophthalmologist confirmation within 24-48 h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Is diagnosed, PHC HIV clin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05-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P pneumo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ophageal Candidi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pes Simp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pes Zo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. Kansasii immune reconstitution pneumo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cobacterium Avium Complex (MA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yptococcal Fungemia, meningi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toplasmo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ytomegalovirus Retinitis - Treat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gancyclovir 900mg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ID x 21 days, then q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erse effect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utropenia ANC&lt;500 in 1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ombocytope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em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%: nausea, vomiting, abdominal pain or diarrh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ngcyclivir intraocular impla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 in addition to systemic therap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rgically implanted depo de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ective for 6 mon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lace at 6 months if still not immune reconstitu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for sight threatening lesions near the central visual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cobacterium avium Complex - Who gets i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 Cells &lt;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reen with blood culture for AFB x 1 q 3 months to detect subclinical dis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cobacterium avium Complex - Sympto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ver, night swe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ight lo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arrh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cobacterium avium Complex - 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em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utropen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cobacterium avium Complex - Diagn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od culture usually positive if symptomatic but takes weeks to gr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need to know sooner then do bone marrow B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itive sputum culture usually colonization, not active dis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itive stool culture may be colonization, not active dis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C-filled macrophages in sple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2057400" y="1981080"/>
            <a:ext cx="4800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cobacterium avium Complex - Treat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rithromycin 500mg BID 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thambutol 15mg/kg/d +/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fabutin 300mg q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atment failure rate is high without immune reconstit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ug toxi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ment of resi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4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3" descr=""/>
          <p:cNvPicPr/>
          <p:nvPr/>
        </p:nvPicPr>
        <p:blipFill>
          <a:blip r:embed="rId1"/>
          <a:stretch/>
        </p:blipFill>
        <p:spPr>
          <a:xfrm>
            <a:off x="3276720" y="457200"/>
            <a:ext cx="45259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ramid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hylaxis simple: Septra and Zithrom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 out TB in pneumonia with T Cells &lt;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oid treating PCP empiric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unce of prevention pills is worth a pound of Treatment pi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ffect of HAART on Opportunistic Infection Inci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OI’s have declined 80-9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I’s seen now mostly in 3 gro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iagnosed HIV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in care or not adhering to thera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ng time “battle-scarred warriors” failing after a long history of multiple regim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ounce of prevention pills is worth a pound of Treatment pi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3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7238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people living with A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Object 0"/>
          <p:cNvGraphicFramePr/>
          <p:nvPr/>
        </p:nvGraphicFramePr>
        <p:xfrm>
          <a:off x="304920" y="1600200"/>
          <a:ext cx="8534160" cy="52322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8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00200"/>
                    <a:ext cx="8534160" cy="52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ramid or iceberg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6" descr=""/>
          <p:cNvPicPr/>
          <p:nvPr/>
        </p:nvPicPr>
        <p:blipFill>
          <a:blip r:embed="rId1"/>
          <a:stretch/>
        </p:blipFill>
        <p:spPr>
          <a:xfrm>
            <a:off x="2819520" y="1676520"/>
            <a:ext cx="32572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8T16:40:48Z</dcterms:created>
  <dc:creator>health</dc:creator>
  <dc:description/>
  <dc:language>en-US</dc:language>
  <cp:lastModifiedBy>HCMARTINEZ</cp:lastModifiedBy>
  <cp:lastPrinted>2003-02-13T16:33:18Z</cp:lastPrinted>
  <dcterms:modified xsi:type="dcterms:W3CDTF">2009-08-31T19:02:11Z</dcterms:modified>
  <cp:revision>20</cp:revision>
  <dc:subject/>
  <dc:title>Primer on Opportunistic Infections</dc:title>
</cp:coreProperties>
</file>